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5C4-089D-4071-A3AC-E0F0B239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0DF-3423-45E0-8917-5FB58016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7FA6A-6493-4EAA-9837-B1FB886D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58F8B-6BE1-4E77-9748-DE1AF61E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0E160-A8F8-498D-9FE4-985545C5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70D18-F2D7-4A00-8B3D-F1816AA7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64FDA-7BEE-4CB7-81E3-F60D4263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DE119-2EAC-4FB7-BFF0-C3A08C85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9BEE6-3406-4484-A051-4EFE70F6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8256E-0B95-49C6-AFDD-F44B3991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697B5-AA1E-4578-AA50-3AA9B6C7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B4E2F-42CF-4F19-8B47-15F49555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AAD-F783-4C16-B3BC-2403623C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36386-F0BA-49BE-AF37-479C0B22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4973A-0F81-4011-8B7D-6085BB62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90B67-E97D-4313-9643-783FF936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E73FD-6976-45E0-BD6C-D67F27C7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56299-6026-4306-8D7D-AFF87067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1B023-3130-4501-A367-A96C1EF1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A8C05-E75F-4466-96E1-84156594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5AE76-271B-4367-ACEA-CA7E4F70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F4D96-0EB1-46AF-B816-AB52DDCA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4405E-899F-45CD-8BDF-0D591CDD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642-D922-4BF9-A89A-5196DCB2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E2191-1D9B-41DA-8867-4EE25FED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60D98-E15F-41BD-A12B-EA08A369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1892E-1CCB-411F-846F-4855062C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C8B63-756D-48D5-8ACA-2AF353E9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10187-14B5-4648-AB9F-1D875F25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68D03-FB6F-401D-8314-A39698ED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D43AD-0583-4B24-A1E2-655296C4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F326F-19FA-4E82-BD46-2DED7D50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BC520-F10F-4C93-8FDD-C0F372AA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60616-C5C7-42E7-A9DD-37671DF0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1EE2-6B2F-49A6-AECF-9F175D16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D0A7A-6F49-4CA4-ABED-EC25D565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ADD08-B9F1-4A20-B1DB-79B126E3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92BE6-841F-4F58-A1FD-4D90F17E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D16DF-C1FB-4946-B21E-E1D05643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9EDBD-63FA-4D1B-8120-34A01DEC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9182D-BEFD-444C-A038-F54A2442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574B1-BCA5-49D1-9409-3A24EDA6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F7BF4-7E19-47EB-A4E7-6665AE6B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CA6B9-D66F-41BD-A549-4FCD148D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8AE2B-95BD-4DA5-B91D-7760CBF2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904B-0B45-4505-B67D-9C1F68EE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508F1-8E90-4078-9FE9-AE071C6A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F8CDA-FD04-4C90-B65B-643F3921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80733-EA45-4B6F-8DDC-45084367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56636-979F-4D40-862C-61152ED7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70555-CD54-4CF3-BA7F-66421D1B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258CF6-21D5-4570-9464-E4348B4B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586E5-861D-4099-AD4B-1FB11E46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B5AD5-63B9-4F4E-A3DC-93E7AA23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32001-D686-42A9-824C-AE861028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767E5-ABDA-4B10-AA85-035F0552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C161-D7FD-44F0-94B3-F28130FF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B6A3D5-53ED-4E34-A147-C2B95ACF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87CE3-FEBB-4797-9808-22363CCC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005AE-DADD-4E72-A559-CB2436A1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7AA86-5AF9-4A37-8E81-3D743126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1ED4B-347A-43D5-AFED-AFC9F5B5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F118C-31D0-4624-A3DE-F32BFC24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00ACD-0326-4C7F-B013-68860A7B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537F1-5FCB-4E46-9620-4699101C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CEAB4F-6A0F-4B96-9A3A-59FCD20A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FDCF15-C7A7-41A1-85E0-A2481307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727B-8F2D-4826-B457-91234359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1230E-7CAE-4002-A8D8-4302A948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F3759-B3DA-4A6E-A063-727EF762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6D12A5-2CDF-4E12-AFA6-14B67DAB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44CCA5-A602-4765-AFE6-B2F7586D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1CEA5-8E04-482D-A6A6-F5FACC65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CD301-BF0A-4549-AC95-20E690D9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B4D06E-DB44-411D-8DAE-E72A84B7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930B7-0A30-4EDA-872C-C1C18581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0C84F6-1C0B-4054-9EBD-468D0B90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F5400A-1C4E-4EAA-85F8-56CA9B65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BC16-6B2E-491D-AA73-30698FF2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F5F2EE-EB6B-4188-9740-8BD78B11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7874A-F4A9-445A-AFD2-809F1783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B2D440-4569-424F-83D9-9BFC5BE5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CAFCC1-46F5-40E8-8928-03D9BEF2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2B6F4B-9E7F-4F54-A138-9FAA3D75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42A22C-8BCD-4B9B-833E-E14B47D6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1E2BF5-4C8D-4C85-9C8B-2D82F866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20ADB1-62A3-4770-B0F3-34179AE4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FCF98C-B345-4967-BFFC-2A1F6236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079ED9-A775-4FEE-B6C0-F33A0A1E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D183-C9D9-4EFB-BF6B-44BCBD94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75BF4-5AC1-4CF5-A2B5-5A7150F0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0C5B5C-283B-4022-8069-E75C1519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94E441-FE02-4447-B824-04AB03C0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701CAA-32CA-4F83-BDC5-4B006CA0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939682-073D-4F15-8B1A-D6D7E61F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8FA2B7-29F2-4760-9F6E-14DE1A0F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3C371-1AE1-47D7-8F75-F488D34D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7A2191-A557-47D7-940E-EB9C21F9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68EA97-6EA1-4D27-86A0-05AAC7DF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839E9-6D6E-46D6-9495-6B6AB0D6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00C6-575C-482A-A806-ECB32573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3BC7E9-2270-4C67-84E9-F31163F8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13C132-73A8-4E91-968B-2F96C51E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7086E-DF16-4884-BFD5-77567D66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A1811A-558B-4838-AA28-BB5248C4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90FD2E-BA85-4437-A094-AFC08A8A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524CD3-5FE4-49D1-9511-A13BBD1B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D26A98-8672-487C-9098-8B72BB0D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26CFDD-6DEF-401F-B89A-7A173287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86BFDE-CC23-4C14-A4A1-07D2602E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7EB478-6FC4-4626-B28B-E7C413A1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657-B953-4DE3-B441-1A13473D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7ACD-921B-4B4D-B652-7680B79A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3A171A-1D06-426A-BF22-305BED6F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1F7AAC-C5BB-4F7C-8487-E52DA91F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CF648E-AA0C-4754-BC83-DA30E35F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BD9BD3-4B64-4BC1-9745-2D763498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5602B1-0844-4953-9E08-FCC2E156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CD26C7-BD84-4C7A-A0A3-955A42E8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A441A3-5E5C-49F9-A1C9-A56856EC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B70513-4AB0-4C9D-9A90-7B302D5E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C31DB7-809A-4E49-8A27-CE20CF60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8BCC01-5E08-4074-9C18-F02FB1B5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ECB4-74B0-45FC-B683-79DE4ED4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116057-808E-4E1B-9A9B-C419F3DC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910424-9F9C-4DB1-ACF7-DDE0E722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8F8285-758A-4DB2-983E-E62E1EAD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49E6A3-B18D-41D5-879B-C26CCE7A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2B4D1F-A7E7-4B30-A3AC-EEB87653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201B4E-767D-45EC-879D-420DAF66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E6BCA5-2683-48FA-AAF5-B344D251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DA5532-6107-4FD6-9047-1385CBBD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1F715D-29C7-4E4F-900B-952B51A7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6CF9BC-8810-4F57-B51E-FDCF1B56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8C79-6F69-469C-B69E-DE5CB946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42509D-65E9-4470-92F1-86D917D9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FDD8F0-527A-4ECA-B1AB-59F0229F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F0A2A0-EC53-479C-97C6-91B1103D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7D34A6-DAC6-4266-88F6-802BA33D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2E44FE-A456-4564-9EA7-4641EA29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247E48-782C-492C-BBF1-262D80E8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F19E06-1707-455B-B9BD-4EFE4963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AF2420-3015-4EB4-9B32-9B53C405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0BC563-815C-4179-B136-A1E79436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6CB192-DC3B-4603-83CA-E90E0155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AE1A-6B12-4249-9BA9-35FCBC3C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8E3A13-3712-4E17-9FE9-2812B749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7C2AAF-A019-4CDC-BE08-0576840C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E03E98-A29C-497C-A1E6-D127F8CE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601EF0-C812-4F6B-A3AF-42419C99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AFAC8C-59CB-4CDA-AC97-6D62D54E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262973-CB23-4C70-B801-BE151380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7DA9AE-80F0-42BA-8115-A053F7EA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2F9BC9-467D-488B-B0A1-28240208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0CFD50-9CCB-47F8-8661-C63552EB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0B5F50-15D5-405F-B8E8-1532BC7B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0EE0-13FF-4CC9-8391-93A8E7D7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4FCF51-7D9C-45E1-9CCD-39525726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4F5AED-1ACA-4126-858D-ED8A82D4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012EBC-924A-4AD2-9D2F-2172ED48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35D58F-E60E-4B65-A745-6AACDC7C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038B14-D551-4DDE-8CE9-079381D2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ADD583-6D05-4E2B-A3C7-0D259086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4F19E8-000C-48A8-ADFB-4F0CCCD5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1B71AA-5681-43FE-A08B-4E34A3B4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9CD794-16E6-410C-913B-79018E47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A88346-6346-4355-BD31-72C96021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847D7-6899-4283-9DE3-2A98A78A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A11074-593D-4E9A-8BC7-D99D6D75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66ED62-48EE-429C-A57B-0FF636EA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C68B05-4063-4663-97F6-B49DF628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2D8BC-F307-4242-B60C-11D88302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247B3-D367-4F50-ABC3-8431E8AD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7AFA5-B482-4AB6-BC4D-2F257986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3204D-2A89-469E-825A-9D92582E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185-6F90-4EE8-8F35-050C51B2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45091-6F67-4D00-A248-1EDA3C74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D26EC-0F19-48F8-8096-6D8FB267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EE040-6226-4BB1-A1BB-A71E4BE7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5A741-247B-4149-951F-541DFC93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50C11-E04B-4FF1-8CD9-68C1C148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AB30E-DF7D-47EB-836B-B4B07872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076C4-CA09-4B4B-9C69-D511D35F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4CD6A-5D65-4547-A121-D999F17B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06314-C610-476A-94DC-5488CACB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6F932-E834-414D-822E-318531E0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C94-B7D1-4B13-8F90-45CC068F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074C2-3668-4322-BCD7-DDF152B9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1E4B4-4212-4153-9E37-94BAA07A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57A86-EF5D-4CA1-BA4B-B6E00963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E94F1-8470-48EA-BC86-2F0A7C31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86459-0E32-4158-8FEC-7F315734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271AF-6670-4844-9D29-11BC106A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C6DDC-7EC7-40F5-87BB-88328AB8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2B3FA-8758-4F0A-B13F-985B6F28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0864B-CDE7-4B08-8B18-8742CCCB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41F68-68D2-413E-A806-E21D67D4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023-1A03-44D3-8B65-EECAE48D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B3244-E53B-457D-9977-4A5B5D29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72670-F127-4B8D-A655-C3C53A42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1D6E7-EA09-4105-B153-937DD885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A0F69-474A-4C58-B90E-36FAE296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E91CD-2A42-4D57-9C4A-3BD0EF81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7D6A1-1BFF-4F1B-BDF6-3EDDF430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F3D6C-26DA-4908-BD8E-AF61ECBF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AC4BA-0DFD-49D5-9E30-29E1EFDE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77184-0973-4402-992F-FCC0FC45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76FDB-8BDC-4FFB-ADAB-DD850FC5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862-E364-45D3-8ADD-124249D2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83DE1-FC64-400B-BD89-46A92B7E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00698-EA70-41AA-BC2A-D0D3C00C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FC463-CF18-46C8-B42A-34F9CA1F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95AA0-EE95-44AC-A296-3622637B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3E8E7-9173-41EF-9DED-BAA73805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D2D50-3B1C-444C-950B-54A38EE8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95F14-3D27-4443-9B00-827FF678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1D3A1-0D16-437B-B5E7-B12FE4BB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FFD19-BB65-4D32-B209-6CD4FD1C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693F3-CD73-4968-A0FA-40A1EDDE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EA1-76F0-4ADB-AEB8-A8E15FFE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2EC1D-3AA2-46D2-8259-257AD646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D32A3-89DA-4CFC-90D6-987C3C7C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0B621-3CB6-4FBC-A18A-6E635C74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2C059-29E9-4561-B5E1-6B22B598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560C8-47E9-4C5D-B38C-67877AB7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3EDF0-FCDC-4D39-B347-8BD9E6F4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093C7-1A3E-4E94-89E8-AA569F90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010F4-4E67-4AE7-8094-543A85A6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4403C-C306-4E52-85CE-AB948C76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5480E-4644-4605-9868-B4214775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6E0-8AF8-43C3-8F1D-104E1451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CBA39-0A2F-433E-829E-0A5E185C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2F785-D363-4AA3-A557-738E600D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D5F4A-6169-4417-96B5-E02B1651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0E622-226F-47AF-84C6-773D6276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8EE0A-4354-45FC-A9D6-7547C129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93ADC-0948-4A99-941C-DFE9C016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085BA-7322-4669-B6CF-EEA8D1FB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022A0-D314-4C60-91CC-BA1A0A51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046B4-069B-4E56-9F12-FBA86880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9AAF2-7C6F-42B4-91CD-DFC7F753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B748-43CD-4165-B581-E0FABF9D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215F3-8B27-4F8F-914A-735630D7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44A0F-BC5D-46EA-BE94-165E490A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A74C0-374F-4D18-8F91-B39F6F4F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83E65-0E78-4A3C-A54A-29EE7AD5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408A5-D49E-4B47-B98A-B865472F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F88B9-B57D-4F92-9279-2E78B9F5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73BA8-5A99-4971-8614-956B4A73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90269-44E2-4D5D-873A-1F7D8155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361EF-CD14-486E-AF4F-06ED5EE8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B2EE1-C0EB-427C-B550-DC0A14CB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4F62-2EC8-4C70-A4AA-920BBE0ED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600C-D840-4A1B-A444-6DCAA085EC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4208-C650-4BFF-A5B3-B315CBFA5E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9F91-491B-48A2-9AAA-C332EC2F2B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41C8-10C9-4824-B672-FCA090F398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1555-7465-4481-8635-874FA70706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C0CE-9AFA-4724-B60E-3DACE5F187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3E11-A0CB-46EB-8B88-9798984A67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32B0-2165-4004-95D5-63120594F7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5122-F096-4FFC-A383-F4BFCD5DE6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E4CB-C8B3-42DA-91BA-22B6D08BFC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7FE7-7AE8-4889-BF44-156B607FD8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D96C-9CC8-44C0-8F92-89FEC222E2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3CB7-900B-49AB-8B8E-7D48144327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9B2C-64BD-4BB4-9228-ECA77D09F4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98D8-4590-4E2D-9A30-E614FE0F3A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1183-6DF6-4D9D-8383-494781725E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2828-1691-49FD-82DD-C9A8E6ACE0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0BAE-B82C-4216-81D5-63ACE8A7A8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10BB-9969-4AA1-BC96-A087370432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475E-AE7B-468B-8A98-F9D27E5318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261F-14DE-4887-A49F-295BB6A072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2870-FB62-4CA7-9915-D6DE21D62F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A445-3454-40E3-B104-3548D5ABCC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862E-2A63-4DA8-A7D9-14B2893205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1B67-EE11-4CDB-A0AF-FC3E8B632F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E4E9-1B24-4702-BC89-4F6C858CCA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C5B8-A0ED-4553-A85F-AF3AFD798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D14A-938C-42D6-9897-FF659F347D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3148-A742-4A4D-BFAB-F41ED7CF17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53E3-F9C2-4B1A-AAC0-D6C3E82319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813D-9368-41EC-A460-D14205457A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9354-311C-4D95-9F91-D9CEC6E013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D57B-386A-4321-8050-E3F5167271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D438-F9A8-468E-9D81-EC02925BBB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3220-67CD-4499-8FDB-027098050E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6940-3B70-4E8E-95CD-522FBF94B7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56AC-0772-41E3-9AA5-A0FA794F72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5EE4-EA8D-48F6-8DA5-9C7B4E4AB7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C0D7-9375-4D95-9BD6-12646F434F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7.png"/><Relationship Id="rId8" Type="http://schemas.openxmlformats.org/officeDocument/2006/relationships/image" Target="../media/image14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52560" y="3160800"/>
            <a:ext cx="888048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23840" y="1071720"/>
            <a:ext cx="8896320" cy="47145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403280" y="21034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258920" y="33433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6156360" y="31701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116000" y="46386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6199200" y="46386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5122" descr=""/>
          <p:cNvPicPr/>
          <p:nvPr/>
        </p:nvPicPr>
        <p:blipFill>
          <a:blip r:embed="rId1"/>
          <a:stretch/>
        </p:blipFill>
        <p:spPr>
          <a:xfrm>
            <a:off x="533520" y="1619280"/>
            <a:ext cx="8076960" cy="3619440"/>
          </a:xfrm>
          <a:prstGeom prst="rect">
            <a:avLst/>
          </a:prstGeom>
          <a:ln w="0">
            <a:noFill/>
          </a:ln>
        </p:spPr>
      </p:pic>
      <p:sp>
        <p:nvSpPr>
          <p:cNvPr id="1037" name="直接连接符 5123"/>
          <p:cNvSpPr/>
          <p:nvPr/>
        </p:nvSpPr>
        <p:spPr>
          <a:xfrm>
            <a:off x="2340000" y="2492280"/>
            <a:ext cx="3527280" cy="1224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直接连接符 5124"/>
          <p:cNvSpPr/>
          <p:nvPr/>
        </p:nvSpPr>
        <p:spPr>
          <a:xfrm flipV="1">
            <a:off x="2700360" y="2565000"/>
            <a:ext cx="3240000" cy="576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直接连接符 5125"/>
          <p:cNvSpPr/>
          <p:nvPr/>
        </p:nvSpPr>
        <p:spPr>
          <a:xfrm>
            <a:off x="2700360" y="3789360"/>
            <a:ext cx="3240000" cy="1152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接连接符 5126"/>
          <p:cNvSpPr/>
          <p:nvPr/>
        </p:nvSpPr>
        <p:spPr>
          <a:xfrm flipV="1">
            <a:off x="2311560" y="3141720"/>
            <a:ext cx="3628800" cy="1224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直接连接符 5127"/>
          <p:cNvSpPr/>
          <p:nvPr/>
        </p:nvSpPr>
        <p:spPr>
          <a:xfrm flipV="1">
            <a:off x="3348000" y="4365720"/>
            <a:ext cx="2592360" cy="5745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130320" y="927000"/>
            <a:ext cx="8885160" cy="54374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116000" y="2852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6147" descr=""/>
          <p:cNvPicPr/>
          <p:nvPr/>
        </p:nvPicPr>
        <p:blipFill>
          <a:blip r:embed="rId3"/>
          <a:stretch/>
        </p:blipFill>
        <p:spPr>
          <a:xfrm>
            <a:off x="3794040" y="2795760"/>
            <a:ext cx="1368360" cy="52992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6148" descr=""/>
          <p:cNvPicPr/>
          <p:nvPr/>
        </p:nvPicPr>
        <p:blipFill>
          <a:blip r:embed="rId4"/>
          <a:stretch/>
        </p:blipFill>
        <p:spPr>
          <a:xfrm>
            <a:off x="3794040" y="3543480"/>
            <a:ext cx="2290680" cy="5299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1116000" y="3587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6"/>
          <a:stretch/>
        </p:blipFill>
        <p:spPr>
          <a:xfrm>
            <a:off x="1116000" y="437976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6151" descr=""/>
          <p:cNvPicPr/>
          <p:nvPr/>
        </p:nvPicPr>
        <p:blipFill>
          <a:blip r:embed="rId7"/>
          <a:stretch/>
        </p:blipFill>
        <p:spPr>
          <a:xfrm>
            <a:off x="3822840" y="4307040"/>
            <a:ext cx="2189160" cy="5299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8"/>
          <a:stretch/>
        </p:blipFill>
        <p:spPr>
          <a:xfrm>
            <a:off x="1116000" y="50990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6153" descr=""/>
          <p:cNvPicPr/>
          <p:nvPr/>
        </p:nvPicPr>
        <p:blipFill>
          <a:blip r:embed="rId9"/>
          <a:stretch/>
        </p:blipFill>
        <p:spPr>
          <a:xfrm>
            <a:off x="3808440" y="5070600"/>
            <a:ext cx="1987560" cy="530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0"/>
          <a:stretch/>
        </p:blipFill>
        <p:spPr>
          <a:xfrm>
            <a:off x="1116000" y="58626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6155" descr=""/>
          <p:cNvPicPr/>
          <p:nvPr/>
        </p:nvPicPr>
        <p:blipFill>
          <a:blip r:embed="rId11"/>
          <a:stretch/>
        </p:blipFill>
        <p:spPr>
          <a:xfrm>
            <a:off x="3780000" y="5834160"/>
            <a:ext cx="180000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图片 1" descr=""/>
          <p:cNvPicPr/>
          <p:nvPr/>
        </p:nvPicPr>
        <p:blipFill>
          <a:blip r:embed="rId1"/>
          <a:stretch/>
        </p:blipFill>
        <p:spPr>
          <a:xfrm>
            <a:off x="585720" y="1952640"/>
            <a:ext cx="79707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7:23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